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1B381-CE23-4FAE-BA95-88863E865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BD529-6D6F-4340-954F-EC34E427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C24F4-32B3-4724-82CB-2AF1B79F8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C7818-9F4C-444E-97F9-F32BC3145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05B9F-ACEA-4DCF-91B4-D2041ECCE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F1BB-1CE9-4AE6-851F-53326A6B8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2B9DE-5463-4C61-9E50-52CD14365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F6B12-D4D5-400D-BFBB-D2CE0839B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A670E-A278-4E8D-89ED-2F64FD166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4704B-71F8-4067-9A78-DDE741ED6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9124F-FB3D-437A-8C18-635A10D2E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1EB00-4B1C-425E-A72F-A7A0C42D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08838-FE4D-4C96-AAAB-FCFD4ADB9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E2790-4874-4D03-8799-72BDAFC1D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A8569-94E0-40DB-9811-FC28EB14E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5C5CD-25AB-43FB-BABD-346AE8722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3DFCC-D101-48B5-A8F4-FB2271653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87753-3C4F-4BE5-A6DD-48CA76C38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7A9C7-EE29-47F6-A1DA-9AB89C22A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A9366-AD4E-4721-8825-AC641852F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46B34-48AA-4F95-8CE3-A82651924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38775-B224-460E-B2E9-9A13D95F7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ACBC5-3896-446E-9A80-B812C4728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374E1-0638-40E8-B646-02669A3BC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4CD02-39FC-46D3-9D57-FA397A776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25C4B-43FF-40BD-A267-9D12DE1ED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20DD8-2CAE-46F7-9891-9E330482C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07FA2-DBAF-49F1-B06E-6A03D1C5C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D4A3E7-E985-4FB1-803E-0F5D0A83C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82496-E791-40D1-A94B-7F40A7B6E1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E730A7-4DF6-4118-8D76-850482E34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29715-32F5-40FA-ADA6-CC38BE434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56F4B-B35E-42F4-AF45-49FDCDA93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067C1-30FB-4653-8BA6-9B3A1F999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A486D-63BC-45EC-A8E7-D3B8630BF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56DDC2-55F0-40EA-804B-53CF0657C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6C27D-4969-47C3-AC55-2E8ACC5C4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C2A0E-45A0-4E34-A3BE-3A8B8356D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0B678-A55F-4C47-857C-7B3870E7A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D7FE3-6008-40B8-95C5-E4AC222CA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1108E-036F-4D32-B1CA-D3DDDE4A7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748871-E681-48E7-A7D4-679B25F299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4F0175-8FF2-428D-827E-1FE37BBFF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77DDCA-020A-41F6-A9C4-47879FE102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7175A-E88F-4726-A5E1-3940A445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3C1C50-8842-428D-93D1-9AED7C197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2658F-06CA-451C-89D7-3FF4870F9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91F5A-47DF-4C14-9A10-A80B279AD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EE6E9-D07A-4FF8-BB2F-D2F3976C9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4D06B-7F11-4354-BDAC-473A6725B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15C5A-E5B3-49F1-ADB1-69CBCC6C5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E16E6-9509-4AA9-A5ED-384C4A7A8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F288A-BC53-4E04-8A69-F6853959C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DF343-5990-42B0-AEA9-D262350CC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925AD6-FFC6-4B3B-BC74-7467EE9FDF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EA9B8-1843-455E-9024-773B8A777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D49C71-023C-44F4-BF96-480EAEC798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5E942D-35CD-4329-A359-215E72FDFA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CAF99-E289-4339-9320-1767756A9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1AA86C-74C1-4D1F-BFD6-43CD5C4EC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88A93-2D35-4387-A3E9-8410DE87B0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5593D1-006A-47D5-AABC-1D0A2628A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F468F-8757-45CF-BA58-70AA253B9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07C94-D46E-400B-BA09-BB4A11BB4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371DB-9F56-4CCC-A0CC-70F4FB754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09F35-5983-487A-9F81-D9E16BAE3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1D520-00B3-4D0B-8796-8D726D30C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B7A07E-B774-46A6-9EEF-2008A2C7B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84B71D-3FCF-4BD8-9272-9BD137B05A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F109F-2F51-4BFC-B5A8-08F8AE2E79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70563-02CF-4148-B9A0-6E872E4DDA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7047C-8CB1-4997-8881-3DCF4034C6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A8E96-9A42-4019-A939-7042875AD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B3C3AB-29E5-4C66-9888-752234059D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3DD41-6116-4302-BCCF-00A7078B8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BD84AA-1CDA-4B92-AF75-95BB6C3A6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6C61F-38BD-43DA-8C03-11B4D2B52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3438-4597-4531-948A-DB0965F8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08A4A-B258-4679-B908-1DF64F48A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EE639-617E-4C20-AE9D-64D4B76DB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2CFC0-5D02-4F00-A8EE-4FBED86195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48F62B-2EB9-4DD1-833A-3ED44CD1F0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D879C5-D2E7-4B2B-87B1-292E25C839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01315F-8800-43DF-8736-051C816BC9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76A6E-05FA-47E7-AAAE-671CB39E75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0D1DC2-3D85-4305-9B60-B3C114AA4A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E4BDA-54F2-4F77-B575-1D2715088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BD0BC9-84DC-423D-8F6E-5CCBB2FE28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A4A1-F12B-4A65-B0D7-18731B33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E3DF94-B12A-49B3-A1B6-45CFD611C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ACBD4-44ED-4192-B374-5A0771E9A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8EA3B8-87FD-484E-B2A6-53F5858AD6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A6262-FCD0-4E57-B6CE-FBC8E9D55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D7229C-6B73-45DF-910B-D0376173D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43298A-72E7-41F5-836A-3F84D61300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0C7C63-7D18-42BC-81E8-5295EDD2EB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B7AF-4325-4225-A1DC-0DA15B345C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381F-5086-48FA-9553-94045182EFF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2845-BFC1-444C-9579-04FC93D619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B12C-6164-4F06-95F3-044CEBCE76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72F4-C3E4-443B-A776-4B3D086BFE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9B11-2403-439B-8CEE-A13DC37203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0EF8-8091-495B-9FE6-EC3FCEFFF8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A6B1-B387-4EDB-B5E1-3023F19396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Business Economic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rs. Tob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over Projects 1-3</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hoto Hound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 the Most of 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ina Dynast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ltiple cho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tching – vocabulary</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ue/fals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hort answer</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ssay</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90"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riving Question: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Would you do business in China?</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ime Frame: 2 ½ weeks</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95120" y="268200"/>
            <a:ext cx="8498160" cy="1158840"/>
          </a:xfrm>
          <a:prstGeom prst="rect">
            <a:avLst/>
          </a:prstGeom>
          <a:ln w="0">
            <a:noFill/>
          </a:ln>
        </p:spPr>
      </p:pic>
      <p:pic>
        <p:nvPicPr>
          <p:cNvPr id="374" name="Picture 4" descr="http://www.enchantedlearning.com/asia/china/map.GIF"/>
          <p:cNvPicPr/>
          <p:nvPr/>
        </p:nvPicPr>
        <p:blipFill>
          <a:blip r:embed="rId2"/>
          <a:stretch/>
        </p:blipFill>
        <p:spPr>
          <a:xfrm>
            <a:off x="4343400" y="3048120"/>
            <a:ext cx="4495680" cy="35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0" y="1143000"/>
            <a:ext cx="9144000" cy="4983120"/>
          </a:xfrm>
          <a:prstGeom prst="rect">
            <a:avLst/>
          </a:prstGeom>
          <a:noFill/>
          <a:ln w="0">
            <a:noFill/>
          </a:ln>
        </p:spPr>
        <p:txBody>
          <a:bodyPr lIns="90000" rIns="90000" tIns="46800" bIns="46800"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dividually, students will conduct secondary research to develop a written report comparing the production of goods in the U.S. to the production of goods in China.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fter completing their individual reports, each team of students will be given a stuffed animal and assigned the task of determining where they want to produce that item—in China or in the U.S.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o make their decision, each team will need to consider a number of factors, including how to produce the stuffed animal, what issues or risks might arise in production, and how to deal with those issues and risks.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fter considering these factors, each team will develop and use a decision matrix to select where to produce its stuffed animal.</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n, teams will present an oral report explaining where the team chose to produce the item, what risks are involved in making the stuffed animal in the selected location, and how the team would deal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th these risks.</a:t>
            </a:r>
            <a:endParaRPr b="0" lang="en-US" sz="2000" spc="-1" strike="noStrike">
              <a:solidFill>
                <a:srgbClr val="000000"/>
              </a:solidFill>
              <a:latin typeface="Lucida Sans Unicode"/>
            </a:endParaRPr>
          </a:p>
        </p:txBody>
      </p:sp>
      <p:pic>
        <p:nvPicPr>
          <p:cNvPr id="37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xplain the concept of productivit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iscuss the relationship between economic output and a society’s standard of living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nalyze the effects of inputs and outputs on productivity level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xplain the concept of organized labor and busines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xplain forms of international business activitie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escribe the nature of quality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dentify quality-control measures/technique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mploy a decision matrix to select best option </a:t>
            </a:r>
            <a:endParaRPr b="0" lang="en-US" sz="2500" spc="-1" strike="noStrike">
              <a:solidFill>
                <a:srgbClr val="000000"/>
              </a:solidFill>
              <a:latin typeface="Lucida Sans Unicode"/>
            </a:endParaRPr>
          </a:p>
        </p:txBody>
      </p:sp>
      <p:pic>
        <p:nvPicPr>
          <p:cNvPr id="378"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80520" y="1295280"/>
            <a:ext cx="8610840" cy="5181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Each student individually conducts secondary research and develops a four-page written report covering the following concepts that compare the production of goods in the U.S. to the production of goods in China:</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ison of China and U.S. workforces (size, education, income, union vs. nonunionized, trends in productivity, etc.)</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asons U.S. companies have goods produced in China and reasons China chooses to produce goods for U.S. companie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U.S. companies get goods produced in China (import/export from other companies, wholly owned subsidiaries, etc.)</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off shoring impacts the domestic economy</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problems U.S. companies encounter with goods produced in China</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quality issues with goods produced in China could be addressed</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ubric</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5-100 Point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team develops a contract for how the team will operate, including how to handle conflict and consequences for team members that don’t participat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25 points (group grad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completing team research and answering the questions listed on previous slide, each team develops and uses a decision matrix to determine where to produce its stuffed anim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10 points (individual grad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same format from previous project</a:t>
            </a:r>
            <a:endParaRPr b="0" lang="en-US" sz="2300" spc="-1" strike="noStrike">
              <a:solidFill>
                <a:srgbClr val="000000"/>
              </a:solidFill>
              <a:latin typeface="Lucida Sans Unicode"/>
            </a:endParaRPr>
          </a:p>
        </p:txBody>
      </p:sp>
      <p:pic>
        <p:nvPicPr>
          <p:cNvPr id="38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To make an educated decision about where produce the team’s stuffed animal, each team needs to answer the following questions:</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y does it cost less to produce the stuffed animal in China and transport it to the U.S. versus producing it domestically?</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will the team get their stuffed animal produced and on the shelves in the U.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sues/risks might arise when doing business in China versus the U.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some ways to overcome those issues/risk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criteria should the team use in its decision matrix to decide where to produce the stuffed animal?</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ord Document</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 points (group grad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70444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team delivers a 5-10-minute present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ntifying where they decided to produce their stuffed anim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rationale for their decis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risks involved in making the product in the selected loc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they would deal with these risk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ubric</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130-150 points (group grad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01:36:18Z</dcterms:created>
  <dc:creator> </dc:creator>
  <dc:description/>
  <dc:language>en-US</dc:language>
  <cp:lastModifiedBy>Computer Services</cp:lastModifiedBy>
  <dcterms:modified xsi:type="dcterms:W3CDTF">2010-03-01T12:50:28Z</dcterms:modified>
  <cp:revision>2</cp:revision>
  <dc:subject/>
  <dc:title>Project 3: China Dynasty</dc:title>
</cp:coreProperties>
</file>